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A52-A2FA-4A00-89C7-ED6ACA2D4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75FF-8A94-44C4-8E50-2CCA2281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680-BCCE-4078-937A-8E463ECD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97B-5091-4A4B-B2B4-16F1416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272-74B8-4DB6-8B8D-B42B7111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E1B-64C4-46C9-875D-4A4F018B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342-80EC-493A-B881-A5CB1D90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8A1-B24A-471E-B558-8E5A569B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ECB-C197-47D1-AD01-8D49CFF1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384-EB29-4AB7-8B2B-FDA5D127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FE4-5FA3-48CD-87E4-8FF4B45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D01-A5E6-4869-8FCC-1CE9047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0A1-C3FE-4329-8806-121C422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7D5-2364-4130-9B44-A900F45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7DEB-6852-42CC-B0B1-265BBD37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36Z</dcterms:modified>
  <cp:revision>104</cp:revision>
  <dc:subject/>
  <dc:title>Profile</dc:title>
</cp:coreProperties>
</file>